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274-1094-457A-91E6-1822A62126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E25-8F91-4F29-8517-E4E42EA260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C34-F9E2-44A9-B628-7D68F512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E7A-4829-47A8-8967-3E82DCEC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CB0-CED6-4E7D-BD20-41149B56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2AC-9A4C-48F6-8C1F-21ED0F83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EEAA5-ED7A-4D4D-B57A-C656863C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A89A9-3F5B-4B56-9F4B-5FD0819C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601E-8FBD-4BEA-92DB-59AEFC7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74EC4-B89A-4A5B-9051-4D129BB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A4ADA-EE62-4596-87C0-8B6703A4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B4EA2-B84C-4BA0-ABB9-A9DE497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2CA05-B6A8-49A8-80A5-A483272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14C-5BAA-4B59-B2CE-D555D555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6985F-FE74-453B-AFA8-C0ADC177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FC682-DA53-423A-91AD-46668F0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F994F-1EC7-4C8F-A610-80950A9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C70A-F4AE-4A39-B75C-078002D2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48F2-E9D2-440A-A20D-C2E581AE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A92C-7CCA-4C42-9D7C-D6FE4A35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98E2-AFBE-4BC2-94F4-E9F2957D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F8AF-C3E1-4C4D-AC69-7061F29D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028C-576B-4518-A8D0-27E9C223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2165-7DC1-4A7C-AF2D-F71BF9F3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A59-7146-417B-A966-6D9BF17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C2F8-6C6E-48C8-A62B-90338B4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39DE-F6AB-4498-9C3A-7533B46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7F0C-37ED-44E2-9A39-BA59B67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5187-6E6E-4609-B0F1-5F3897D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F4C6-E81D-4455-A8C6-D5B82C0E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622F-6459-45ED-B8C4-21ED1842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21D4-EF92-4187-BF1E-A71B5B3E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04F5-46D6-450F-B462-B8471769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7673C-D3D6-4F02-A944-92DEFB49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BC99-FEAF-427A-840F-78F13C51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218-7A43-471C-8440-AF7C925D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BC47-963B-461C-9A83-2B1E9F98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48E2-A366-4D61-A794-02A3B243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C434-06DD-4667-B7D3-C95142F8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9802-F80A-4AAA-826D-AD5D65C4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6DEC-6F60-4FC4-9C6C-50F86A4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76FF8-3127-4A69-BCC1-FEE56C08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FB2E-9DA9-4CE4-882B-86DF0729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7FDBE-5CC9-4E9A-924D-61CCFD9E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998D-227A-4B98-8799-D92FC668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13D1B-DF29-464C-9127-BFE574E2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EAA-AA7E-4541-BAA4-F163FC81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12AC2-611D-4EAE-9802-BD7E44E1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B07C-5376-437B-816C-68A3FBA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1B9D-EFB5-4D2F-AAF3-2100A612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7A44B-9603-4979-83ED-DAB576A5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26499-EDCC-46E1-9A5A-A6D6497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E38E-96A8-444A-A060-D71F6E3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DE64-E101-48A2-A2AE-1AF7BDAD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4397-B87C-4969-A97E-40758EE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D8D5-6EC4-4362-BE35-3EB803D5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9D4BA-AF99-4FE7-B99F-BBC45122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952-7E63-43F9-B736-F5F03EF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4DC1-088B-4183-B51D-F5610885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39DFB-D977-469B-B8CC-328446C2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3632-04F8-4E47-BE92-3F592421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221F-E040-4664-8DC1-8C3E9090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4FCA-432E-44AE-A523-B42CBFFC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F95B-FD3C-4238-A5DA-8E8211F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BB83-3B7A-43E3-8FD6-59D4547F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9DE5E-C1D2-4A57-ADCB-3BDAEE0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0DDD-F36F-45ED-A03C-78BDF5C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F548-4DC3-40D5-8CD4-EAA86F1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0D7-0DF1-44EE-9943-BD14BCC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5D88-B7CC-45D7-80FE-65F8976E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E14CB-BBE3-4C6D-A717-C0C9A8D8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E690-B166-486B-94AC-A14A089D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1808-DBD1-4BFE-B82B-712D0DCD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ED754-C9ED-4823-9433-96B0B8A5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0668-A3D5-42E4-AE4A-CC13E9D7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A1DC-8BD4-4E3E-90C5-B93E014A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F7503-3E8E-44E9-A216-BB6B2F1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3C1E-7E8F-4490-8FAA-2F59E909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36E08-EE68-41E8-B41A-F47E548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CE8-FDC3-41AA-A009-00981CB8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F48A-A214-4046-8A66-B1A190E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0E1A-7957-4EAE-9022-3273D1B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F85C-651C-4A9B-B335-18D8D86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69F1-DB69-4173-B505-A713BEE6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3561-14FB-4304-888D-69071D76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E46D7-6BF6-437E-8B80-99EE62BA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C1A35-2E0F-4AFB-9A25-8BE9C9F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12AA1-209E-40D5-8D03-E308427F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2F1A5-F54B-4878-9D1C-8772121B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37EC7-89BC-4D42-94A2-64916793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F39-1CE3-4D6E-BA90-A5A88169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81626-AAD0-42ED-A9ED-2B88D9E4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FD782-64F1-4C43-ABC8-90A711C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F2A2F-1AF0-4785-BDFD-AA9A6AEB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848DA-902E-409D-9F40-E0BEC13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D32E-5E79-41D7-9522-87BD9BFF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91552-04D7-4E4C-BFC1-50FA99E1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C3B9-8C4D-49CC-912A-6FFCE614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B0C0-E4C9-43FD-A6A7-1C4D383639DC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B88-8035-49DF-A815-515B4C0F625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19C-A958-4AC2-8280-A64B7A395FFF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52A0-1EEB-40D2-BEB4-CBB2179157A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2BE8-3E0E-48A1-BC7E-D394D6B09BF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E39-EBF9-43D0-8F03-121522EB76F7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DA05-2E9C-4BED-AF3E-FB2EDC6E288D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C13C-031D-4D41-B7E3-18BA208931F6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375d3a"/>
                </a:solidFill>
                <a:latin typeface="Calisto MT"/>
              </a:rPr>
              <a:t>Unit 4 – Partons en voyag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sto MT"/>
              </a:rPr>
              <a:t>Leçon 3 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75d3a"/>
                </a:solidFill>
                <a:latin typeface="Calisto MT"/>
              </a:rPr>
              <a:t>Les prépositions devant les noms de villes  et de pays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5000"/>
          </a:bodyPr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 vous!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renez une feuille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aites 2 colonnes: Masc – Fem – Plur-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ous dis un nom de pays et vous devez le mettre dans la bonne colon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0520" y="1980720"/>
            <a:ext cx="403884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Itali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spag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ranc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ap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hi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hilippine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Rectangle 3"/>
          <p:cNvSpPr/>
          <p:nvPr/>
        </p:nvSpPr>
        <p:spPr>
          <a:xfrm flipH="1">
            <a:off x="4571280" y="1981080"/>
            <a:ext cx="388620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a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Bré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Ke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905120"/>
          <a:ext cx="822960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97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t AVEC 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80880" y="1371600"/>
          <a:ext cx="8534520" cy="5562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xceptions 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2120" y="2286000"/>
          <a:ext cx="7010280" cy="28558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ex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Où est –ce que je vais? Je vous dis la ville, vous devez me dire le pays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Vous devez complétez la phrase avec la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bonne préposition 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our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ville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uis, trouvez de quel pays il s’agit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Complétez avec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bonne préposition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nez un tableau et écrivez la préposition qui manque sur le tableau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odè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images-1.jpeg"/>
          <p:cNvPicPr/>
          <p:nvPr/>
        </p:nvPicPr>
        <p:blipFill>
          <a:blip r:embed="rId1"/>
          <a:stretch/>
        </p:blipFill>
        <p:spPr>
          <a:xfrm>
            <a:off x="6629400" y="1676520"/>
            <a:ext cx="1616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981080"/>
            <a:ext cx="8102880" cy="41450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Rappel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adrid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p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9" descr="images-2.jpeg"/>
          <p:cNvPicPr/>
          <p:nvPr/>
        </p:nvPicPr>
        <p:blipFill>
          <a:blip r:embed="rId1"/>
          <a:stretch/>
        </p:blipFill>
        <p:spPr>
          <a:xfrm>
            <a:off x="5638680" y="1523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Québec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DownloadedFile-1.jpeg"/>
          <p:cNvPicPr/>
          <p:nvPr/>
        </p:nvPicPr>
        <p:blipFill>
          <a:blip r:embed="rId1"/>
          <a:stretch/>
        </p:blipFill>
        <p:spPr>
          <a:xfrm>
            <a:off x="5638680" y="1600200"/>
            <a:ext cx="27496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4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Rom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Ita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images-1.jpeg"/>
          <p:cNvPicPr/>
          <p:nvPr/>
        </p:nvPicPr>
        <p:blipFill>
          <a:blip r:embed="rId1"/>
          <a:stretch/>
        </p:blipFill>
        <p:spPr>
          <a:xfrm>
            <a:off x="5257800" y="1219320"/>
            <a:ext cx="3033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5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oscou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images-4.jpeg"/>
          <p:cNvPicPr/>
          <p:nvPr/>
        </p:nvPicPr>
        <p:blipFill>
          <a:blip r:embed="rId1"/>
          <a:stretch/>
        </p:blipFill>
        <p:spPr>
          <a:xfrm>
            <a:off x="5257800" y="114300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6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Genèv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images-3.jpeg"/>
          <p:cNvPicPr/>
          <p:nvPr/>
        </p:nvPicPr>
        <p:blipFill>
          <a:blip r:embed="rId1"/>
          <a:stretch/>
        </p:blipFill>
        <p:spPr>
          <a:xfrm>
            <a:off x="5562720" y="1752480"/>
            <a:ext cx="26906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7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Tokyo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images-5.jpeg"/>
          <p:cNvPicPr/>
          <p:nvPr/>
        </p:nvPicPr>
        <p:blipFill>
          <a:blip r:embed="rId1"/>
          <a:stretch/>
        </p:blipFill>
        <p:spPr>
          <a:xfrm>
            <a:off x="5715000" y="16765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8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bidja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images-1.jpeg"/>
          <p:cNvPicPr/>
          <p:nvPr/>
        </p:nvPicPr>
        <p:blipFill>
          <a:blip r:embed="rId1"/>
          <a:stretch/>
        </p:blipFill>
        <p:spPr>
          <a:xfrm>
            <a:off x="5181480" y="1676520"/>
            <a:ext cx="311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9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tlanta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images.jpeg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Berli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images-2.jpeg"/>
          <p:cNvPicPr/>
          <p:nvPr/>
        </p:nvPicPr>
        <p:blipFill>
          <a:blip r:embed="rId1"/>
          <a:stretch/>
        </p:blipFill>
        <p:spPr>
          <a:xfrm>
            <a:off x="5181480" y="12193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exico City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x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"/>
          <p:cNvSpPr/>
          <p:nvPr/>
        </p:nvSpPr>
        <p:spPr>
          <a:xfrm>
            <a:off x="27432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images-3.jpeg"/>
          <p:cNvPicPr/>
          <p:nvPr/>
        </p:nvPicPr>
        <p:blipFill>
          <a:blip r:embed="rId1"/>
          <a:stretch/>
        </p:blipFill>
        <p:spPr>
          <a:xfrm>
            <a:off x="5880240" y="106056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980720"/>
            <a:ext cx="8102880" cy="34290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7000"/>
          </a:bodyPr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Questions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sto MT"/>
              </a:rPr>
              <a:t>Regardez les prépositions devant Paris et France?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Devant un nom de villes (pour dire où on est, ou où on va, on doit utiliser)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À + nom de la vil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x. Nous habitons _____   Fairfield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4" name="Picture 3" descr="images.jpeg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57488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main, nous allons _____   New York 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503208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DownloadedFile.jpeg"/>
          <p:cNvPicPr/>
          <p:nvPr/>
        </p:nvPicPr>
        <p:blipFill>
          <a:blip r:embed="rId1"/>
          <a:stretch/>
        </p:blipFill>
        <p:spPr>
          <a:xfrm>
            <a:off x="2514600" y="32004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our les vacances, nous allons _____   Miami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0860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ownloadedFile-1.jpeg"/>
          <p:cNvPicPr/>
          <p:nvPr/>
        </p:nvPicPr>
        <p:blipFill>
          <a:blip r:embed="rId1"/>
          <a:stretch/>
        </p:blipFill>
        <p:spPr>
          <a:xfrm>
            <a:off x="2401920" y="3173400"/>
            <a:ext cx="3213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743200"/>
          <a:ext cx="7848720" cy="1951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2743200"/>
          <a:ext cx="7848720" cy="19350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ETATS-U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1:55:37Z</dcterms:created>
  <dc:creator>Mr. Smith</dc:creator>
  <dc:description/>
  <dc:language>en-US</dc:language>
  <cp:lastModifiedBy>GREBERT,VIVIANE</cp:lastModifiedBy>
  <dcterms:modified xsi:type="dcterms:W3CDTF">2017-03-14T18:16:08Z</dcterms:modified>
  <cp:revision>102</cp:revision>
  <dc:subject/>
  <dc:title>Allez, viens! – Level 2</dc:title>
</cp:coreProperties>
</file>